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4F1-93F6-4640-9153-C2253C32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5F1-1EAF-4993-87C1-872B6DA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B2F-591A-4E5F-BF6E-601594DA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D75-C74E-446D-B6C7-3558215F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6DCC-8E54-4131-A983-A32D5F4C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5DA1-F948-4A94-9AF9-12C7155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462-6BAB-498C-8B54-AE1EACA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DAA-BA6D-4CA6-9DD1-BF9E13FE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6A2A-F1D6-4FB2-9DEA-249BECBB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338-4E75-4FD5-9106-C960E40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E82-B464-4FC8-959A-19D8995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89B-CCA4-4D09-BF9F-2313EC3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4BE3-BC9C-4335-810A-B3C20DF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8F65-0F63-447A-B692-0ADC05E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DCC6-93F5-492E-9EE0-8D83070F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E2F4-B9F4-4B26-B01C-290F8B9A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3AA9-E931-48E4-B773-7DF7E2F2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CCD-E4A9-4008-8FE7-29BCF8C7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D34-81FD-4367-8323-BF754BC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F37-608C-474F-A154-AA7A5FD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A7D-3ADA-444D-B0A3-53A1879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58D-41FC-4372-835E-1F39BBF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309-9A9C-46E8-A813-C5A50A2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B9E-1DC0-42C9-A62D-186F780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1C8-D901-4D41-BE47-FF7E7816D7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B0CD-844E-4B97-8370-7068C623C6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Научно – практическая конференция школьных библиотекарей Нурлатского района и   г. Нурла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92000" y="6021360"/>
            <a:ext cx="65451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сто проведения: МОУ НСОШ№9, дата: 30 октября 2009 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65240"/>
            <a:ext cx="89917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Georgia"/>
              </a:rPr>
              <a:t>МАСТЕР – КЛАС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«Портфолио библиотекаря» -</a:t>
            </a:r>
            <a:r>
              <a:rPr b="0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Зайнутдинова Н.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«Бенефис читателя» - </a:t>
            </a:r>
            <a:r>
              <a:rPr b="0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Козин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 </a:t>
            </a:r>
            <a:r>
              <a:rPr b="1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«Современные детские писатели Татарстана»-</a:t>
            </a:r>
            <a:r>
              <a:rPr b="0" i="1" lang="ru-RU" sz="3200" spc="-1" strike="noStrike" u="sng">
                <a:solidFill>
                  <a:srgbClr val="9ce157"/>
                </a:solidFill>
                <a:uFillTx/>
                <a:latin typeface="Georgia"/>
              </a:rPr>
              <a:t>Усманова Ф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9ce15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609480" y="685800"/>
            <a:ext cx="7925040" cy="5216400"/>
            <a:chOff x="609480" y="685800"/>
            <a:chExt cx="7925040" cy="5216400"/>
          </a:xfrm>
        </p:grpSpPr>
        <p:sp>
          <p:nvSpPr>
            <p:cNvPr id="144" name=""/>
            <p:cNvSpPr txBox="1"/>
            <p:nvPr/>
          </p:nvSpPr>
          <p:spPr>
            <a:xfrm>
              <a:off x="685800" y="685800"/>
              <a:ext cx="7848720" cy="18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cc00"/>
                  </a:solidFill>
                  <a:latin typeface="Lucida Console"/>
                </a:rPr>
                <a:t>Взаимосвязь традиций </a:t>
              </a:r>
              <a:endParaRPr b="1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Lucida Console"/>
                <a:ea typeface="Lucida Console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09480" y="3657600"/>
              <a:ext cx="7848720" cy="224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472"/>
                  <a:gd name="adj2" fmla="val -104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260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f98d43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Georgia"/>
                </a:rPr>
                <a:t>инноваций</a:t>
              </a:r>
              <a:endParaRPr b="1" i="1" lang="en-US" sz="24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98d43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Georgia"/>
                <a:ea typeface="Georgi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73920" y="2668680"/>
              <a:ext cx="1012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0" spc="-1" strike="noStrike">
                  <a:solidFill>
                    <a:srgbClr val="ffcc00"/>
                  </a:solidFill>
                  <a:latin typeface="Georgia"/>
                </a:rPr>
                <a:t>И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99072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             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Организаторы Научно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          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практической конференции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             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Verdana"/>
              </a:rPr>
              <a:t>Совет Методического объединения школьных библиотекарей г. Нурлат и Нурлатского района 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88920"/>
            <a:ext cx="876312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Georgia"/>
              </a:rPr>
              <a:t>Цели  НП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обсуждение актуальных вопросов работ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школьных библиот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расширение возможностей библиот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укрепление имиджа библиот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обмен опытом работы, распространение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инновационных форм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повышение профессиональной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компетентности сотрудников,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инновацион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развитие кадровых ресурсов, улуч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условий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2600"/>
            <a:ext cx="8686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Georgia"/>
              </a:rPr>
              <a:t>Направления работы НП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Активизация школьных библиотекарей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к применению новых форм работы ( Зарип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С.В., Маслова С.В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Распространение инновационных фор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работы ( Маслова С.В., Зайнутдинова Н.Ф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Эффективность использования ИКТ в работ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школьных библиотек ( Морякина М.Р.,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Зиангирова З.А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Повышение профессионального уровн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школьных библиотекарей (Маслова С.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6524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76500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1    АКТИВИЗАЦИЯ ШКОЛЬНЫХ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ИБЛИОТЕКАРЕЙ К ПРИМЕНЕНИЮ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ОВЫХ ФОРМ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итата: « Чтение – только нач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ворчество жизни – вот цель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убакин Н. 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22860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2.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РАСПРОСТРАНЕНИ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ИННОВАЦИОННЫХ ФОРМ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ШКОЛЬНЫХ БИБЛИОТЕКА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Цитата: «Что умеете хорошего, то 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забывайте, а чего не умеет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тому  учитес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поучение В.Мономаха своим дет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40514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404640"/>
            <a:ext cx="855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ЭФФЕКТИВ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ИСПОЛЬЗОВАНИЕ ИКТ В РАБОТ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ШКОЛЬНОЙ БИБЛИОТЕ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Цитата: «Книга книгой, но и свои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мозгом двигай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Горький  А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380880"/>
            <a:ext cx="86868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Georgia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ПОВЫШЕНИЕ ПРОФЕССИОН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УРОВНЯ ШКОЛЬНОГО БИБЛИОТЕКАРЯ– ТРЕБОВАНИЕ МЕНЯЮЩЕГОСЯ ИНФОРМАЦИОННОГО ПРОСТР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Цитата: «Не знать не стыдно, стыдно не учитьс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Русская народная послов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4:46:08Z</dcterms:created>
  <dc:creator>*</dc:creator>
  <dc:description/>
  <dc:language>en-US</dc:language>
  <cp:lastModifiedBy>User</cp:lastModifiedBy>
  <dcterms:modified xsi:type="dcterms:W3CDTF">2009-10-29T10:52:05Z</dcterms:modified>
  <cp:revision>62</cp:revision>
  <dc:subject/>
  <dc:title>Презентация PowerPoint</dc:title>
</cp:coreProperties>
</file>